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F83F-680D-4BFB-B36D-836621892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E019-3C17-4316-B64F-2B624489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0E29-6535-40A7-B9AF-4E44BCAAE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6E33-17A6-499C-99F8-8925C1069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4087-3E43-440F-9288-5A633DA76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AA28-5528-42AF-A8C6-37ADECA5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1213-1779-4F10-BECF-A9C677B8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F522-B3AD-4A20-8C71-6B022D9E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C6C8-EB72-42EC-9282-C3EA79CB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5F8D-5239-451F-A215-3200138B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49C0-2B70-46A3-ADB2-25439653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F723-E4FE-4F42-A378-0AB81561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2A9F-AB2D-45A2-B0D2-74525289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EBD8-EC83-40DF-B2A7-3A815B4C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31AC-205A-4579-9858-6778DC4D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8206-57B1-4595-8B74-2CB65D9DF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53DC-F8F5-4880-B533-75436809E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D5B2-27FD-4071-971A-E32CFEF6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1728-FFFA-48E3-BA47-E8A0AA21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35B8-C50A-4F76-A2E4-D9DCDED0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90DA-4B4A-49DB-8526-4E09BCDF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D4E1-5D36-4F80-926E-D2194D72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C7C8-44EF-4B70-AF74-AD8AC86B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3770-C390-47B1-8560-081B1E30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0D1F-A749-4200-9232-D4757A0C3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4346-E5DB-4044-B4B4-FFFE8948E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221304"/>
                </a:solidFill>
                <a:uFillTx/>
                <a:latin typeface="Comic Sans MS"/>
              </a:rPr>
              <a:t>These  are  our  class  rules!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00200" y="2133720"/>
            <a:ext cx="6400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1676520"/>
            <a:ext cx="7315200" cy="4724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Comic Sans MS"/>
              </a:rPr>
              <a:t>I  agree  with  all  </a:t>
            </a:r>
            <a:br>
              <a:rPr sz="4000"/>
            </a:br>
            <a:r>
              <a:rPr b="0" lang="en-US" sz="4000" spc="-1" strike="noStrike">
                <a:solidFill>
                  <a:srgbClr val="221304"/>
                </a:solidFill>
                <a:latin typeface="Comic Sans MS"/>
              </a:rPr>
              <a:t>the  class  rules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1828800"/>
            <a:ext cx="7543800" cy="4648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20:27:18Z</dcterms:created>
  <dc:creator>Victoria Appleton</dc:creator>
  <dc:description/>
  <dc:language>en-US</dc:language>
  <cp:lastModifiedBy>Victoria Appleton</cp:lastModifiedBy>
  <dcterms:modified xsi:type="dcterms:W3CDTF">2004-04-18T22:32:23Z</dcterms:modified>
  <cp:revision>5</cp:revision>
  <dc:subject/>
  <dc:title>Class Rules</dc:title>
</cp:coreProperties>
</file>